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95695-EF9E-4799-8A46-C47299D7DD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90B9B-7EC5-49C1-AF46-9E831F292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1E6D8-5E65-446F-814F-B821D247A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A74E-24D4-45DC-BC1F-90A476EDB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C7A4C-DCC1-4491-ADA1-5BD978B965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D5CE-E874-47C1-8EB6-E211C11FA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F9E8D-6E13-4EDA-B6FD-7F308F85C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30B6D-FFD1-4FC1-B3B3-212DB7D52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4960-B5FA-4042-8EDE-9FA6D5893B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F5B1E-38ED-4030-A314-5B7365258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B9893-B136-47C3-B797-3BCEC1C21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D723D-E596-46C7-BD0D-8EBC501EBE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12E8F-1EAA-49A3-AFA8-187E261647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749DE-71F4-4FA6-9697-633C6AE11E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114AB-D939-4F72-BBD6-303FA13BD7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53F6-C436-49F8-89EE-7A3B3CCE14E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5D49-707F-4AD8-9858-7E5DCFFFA90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2F88-B160-49B1-B0AB-08BD6078C33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D4EC-9C27-4712-BF65-234587C0672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3F50-D371-449F-9F02-0F6D291CB32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C56D-D099-4CF4-A594-2D42B767E44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B7EB-99DB-4E53-B769-35EE53D094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419C9-7BE6-4337-B778-39D64E413B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362B-CEB2-467A-A345-9A67DB8DF3E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DD11-4DD7-4822-B1D1-A5D13D7DDBF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DEE1-1C42-4835-94FC-42BE19CEBFC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17B2-C64C-494F-B663-64CC4B4F2EB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F6F7-7C10-4346-A989-2D496CFF03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05EBC-E482-49FB-B4E0-D0B61B7011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D5C11-F514-4E65-BFF6-53841819F8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E0DE3-F0B6-4E2C-BBF0-1FA1C04596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21C5F-D813-4B9A-B5D3-223FFB1F5D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C9966-B5E7-4AA1-A79C-CD021F6EAC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C74A8-274B-4F20-A811-419FB12C45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FC476-B36C-4C48-83EA-C022960352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BB04D-9414-425B-A45C-4A5DAF4090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6B19A-E8BC-40EA-BD4B-10D67AE5FB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EQA Scheme Organization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6506-E28B-42C7-9707-25F615C7724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interests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im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fidentiali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cknowle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m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4646E-7990-4648-A04F-05165BCD034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ries, feedback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ference” role of the EQ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s and recommendation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participating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solv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recommending certai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2514600" cy="188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05320" y="4343400"/>
            <a:ext cx="5105160" cy="1641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erfect is not too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0EB22-263C-4070-86AB-9D4CAB75165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 already controlled by a international EQA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involve the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i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non-contaminat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good communication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ay careful attention to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SimSun"/>
              </a:rPr>
              <a:t>Starting an EQA Program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7d"/>
                </a:solidFill>
                <a:latin typeface="Verdana"/>
                <a:ea typeface="SimSu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DD769-AA81-41FC-873A-51C545E2E6B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38680" y="20574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148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163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164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165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170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74"/>
              <p:cNvSpPr/>
              <p:nvPr/>
            </p:nvSpPr>
            <p:spPr>
              <a:xfrm>
                <a:off x="22654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173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174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179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184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188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191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197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200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203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343A2-F26A-445D-90B9-08C7B161B7E1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proficiency test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of laboratories – interlaboratory comparisons/re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on-site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3501F-3300-4712-B35F-01C385E3B5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rior Participation (and Success!) in a PT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SimSun"/>
              </a:rPr>
              <a:t>need to subscribe to a foreig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monitor its ow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mperative and oblig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 question o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3A43C-8B0E-42C2-B648-2302BF2FE96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Involve th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guarantees </a:t>
            </a:r>
            <a:r>
              <a:rPr b="0" lang="en-GB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ed to the institution’s 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mean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liaise with operating licensing / certification / accreditation / national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(EQA activiti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reate saving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them is wor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213372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66085-8EEF-4CA5-BA34-D4FA8AF2823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im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roficienc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, stained or uns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Gram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acid-fast bacilli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of bacterial s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nteric microorganism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Re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 (AFB, Gram, CSF,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bacterial strains if materials and technical capability is present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strain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952880" y="2362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C905E-858E-403C-B326-DF17A360361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mall number of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ilo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verify transport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ries for a tes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outside of the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first study with basic materials (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ries for the fir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items per parcel (minimum 2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51360" cy="2590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9759200">
            <a:off x="7238880" y="22096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1AB9C-7981-4165-BB9C-6D16F40901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SimSun"/>
              </a:rPr>
              <a:t>Start with Non-Contaminat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n the beginning, avoid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dangerous” pathoge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ntaminated s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follow national transportation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D8531-BD87-4732-99C6-510F2D9B4D2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hysica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al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smal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7EC87-C9F3-41AE-9EF7-08088B69E5A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articipating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scientific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rofession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ny other with interest in 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EQ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77F09-1D54-4FE3-81EF-5D95842F24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Robin Barteluk</cp:lastModifiedBy>
  <dcterms:modified xsi:type="dcterms:W3CDTF">2008-11-28T02:21:01Z</dcterms:modified>
  <cp:revision>12</cp:revision>
  <dc:subject/>
  <dc:title>EQA scheme Organization optional</dc:title>
</cp:coreProperties>
</file>